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93CAE8-B756-4255-8095-6ED1D1F0AAA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C78984-82E0-463C-B296-9CCB14366D6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82E75C1-F216-47FB-973D-D18B75D021D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22A97B-48B7-4D47-B5FB-42AB22946AC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6B43E0C-CC57-40AF-A875-F3732CDD339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FB13BE-284C-4ADE-8BA0-06F5A785D96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021C7D-C894-4550-A843-737A6DA6010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F514A34-3676-41D2-A8AE-DEA6763F976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A0B2E7-3979-4F43-85EE-B0F6E1A6B71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E24EDA-02A1-4F4B-B025-5FFEA8D5B89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440DA05-FEDE-4F52-B655-F74CFD917E5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0F5723-D8A1-4448-A79D-FB32717A9F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4B705A-5E63-42A5-8886-5D907937DE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BB957D-C711-4438-9E73-6BC62AFF80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68B24D-BDAD-49D2-8FC0-01F4DF2AF3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52489-1F26-4AE3-B6D2-B6D2E1120B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38555-711F-4AE3-A39E-119E1A45A5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F01692-5212-4733-864B-46A8F84B41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DAA093-ACDD-4C42-B0DB-9E123CBC98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1979395-FD81-493D-824B-25687A6F8A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80A69-2445-41A2-84B2-812BCB3432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87C0E-8020-4147-BE1D-8901756607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76260-C0A6-4C51-9FBA-2BC44C230C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A2D86-EB67-4B92-81E0-5E2FC0157608}"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insomniahenceinsanity.files.wordpress.com/2009/08/david-beckham-shows-his-new-angelic-tattoo_49.jpg&amp;imgrefurl=http://insomniahenceinsanity.wordpress.com/2009/08/30/591/&amp;usg=__f9Hr10BZC4FJH_8r3fSnuDyfnUY=&amp;h=528&amp;w=450&amp;sz=61&amp;hl=en&amp;start=38&amp;itbs=1&amp;tbnid=GyJpoOXjAl2UPM:&amp;tbnh=132&amp;tbnw=113&amp;prev=/images%3Fq%3Ddavid%2Bbeckham%26start%3D20%26hl%3Den%26safe%3Dstrict%26sa%3DN%26gbv%3D2%26ndsp%3D20%26tbs%3Disch:1" TargetMode="External"/><Relationship Id="rId6" Type="http://schemas.openxmlformats.org/officeDocument/2006/relationships/image" Target="../media/image1.jpeg"/><Relationship Id="rId7" Type="http://schemas.openxmlformats.org/officeDocument/2006/relationships/hyperlink" Target="http://www.google.com/imgres?imgurl=http://insomniahenceinsanity.files.wordpress.com/2009/08/david-beckham-shows-his-new-angelic-tattoo_49.jpg&amp;imgrefurl=http://insomniahenceinsanity.wordpress.com/2009/08/30/591/&amp;usg=__f9Hr10BZC4FJH_8r3fSnuDyfnUY=&amp;h=528&amp;w=450&amp;sz=61&amp;hl=en&amp;start=38&amp;itbs=1&amp;tbnid=GyJpoOXjAl2UPM:&amp;tbnh=132&amp;tbnw=113&amp;prev=/images%3Fq%3Ddavid%2Bbeckham%26start%3D20%26hl%3Den%26safe%3Dstrict%26sa%3DN%26gbv%3D2%26ndsp%3D20%26tbs%3Disch:1" TargetMode="External"/><Relationship Id="rId8" Type="http://schemas.openxmlformats.org/officeDocument/2006/relationships/image" Target="../media/image1.jpeg"/><Relationship Id="rId9" Type="http://schemas.openxmlformats.org/officeDocument/2006/relationships/hyperlink" Target="http://www.google.com/imgres?imgurl=http://insomniahenceinsanity.files.wordpress.com/2009/08/david-beckham-shows-his-new-angelic-tattoo_49.jpg&amp;imgrefurl=http://insomniahenceinsanity.wordpress.com/2009/08/30/591/&amp;usg=__f9Hr10BZC4FJH_8r3fSnuDyfnUY=&amp;h=528&amp;w=450&amp;sz=61&amp;hl=en&amp;start=38&amp;itbs=1&amp;tbnid=GyJpoOXjAl2UPM:&amp;tbnh=132&amp;tbnw=113&amp;prev=/images%3Fq%3Ddavid%2Bbeckham%26start%3D20%26hl%3Den%26safe%3Dstrict%26sa%3DN%26gbv%3D2%26ndsp%3D20%26tbs%3Disch:1" TargetMode="External"/><Relationship Id="rId10" Type="http://schemas.openxmlformats.org/officeDocument/2006/relationships/image" Target="../media/image1.jpeg"/><Relationship Id="rId11" Type="http://schemas.openxmlformats.org/officeDocument/2006/relationships/hyperlink" Target="http://www.google.com/imgres?imgurl=http://insomniahenceinsanity.files.wordpress.com/2009/08/david-beckham-shows-his-new-angelic-tattoo_49.jpg&amp;imgrefurl=http://insomniahenceinsanity.wordpress.com/2009/08/30/591/&amp;usg=__f9Hr10BZC4FJH_8r3fSnuDyfnUY=&amp;h=528&amp;w=450&amp;sz=61&amp;hl=en&amp;start=38&amp;itbs=1&amp;tbnid=GyJpoOXjAl2UPM:&amp;tbnh=132&amp;tbnw=113&amp;prev=/images%3Fq%3Ddavid%2Bbeckham%26start%3D20%26hl%3Den%26safe%3Dstrict%26sa%3DN%26gbv%3D2%26ndsp%3D20%26tbs%3Disch:1" TargetMode="External"/><Relationship Id="rId12" Type="http://schemas.openxmlformats.org/officeDocument/2006/relationships/image" Target="../media/image1.jpeg"/><Relationship Id="rId13" Type="http://schemas.openxmlformats.org/officeDocument/2006/relationships/hyperlink" Target="http://www.google.com/imgres?imgurl=http://imstars.aufeminin.com/stars/fan/mark-wahlberg/mark-wahlberg-20060105-96202.jpg&amp;imgrefurl=http://www.sofeminine.co.uk/star/pictures-96202-mark-wahlberg.html&amp;usg=__Hyu6rZ0z0N-6WlJRDuyYXOiZITM=&amp;h=500&amp;w=332&amp;sz=49&amp;hl=en&amp;start=27&amp;itbs=1&amp;tbnid=umhkTtyF7_XsVM:&amp;tbnh=130&amp;tbnw=86&amp;prev=/images%3Fq%3Dmark%2Bwahlberg%26start%3D20%26hl%3Den%26safe%3Dstrict%26sa%3DN%26gbv%3D2%26ndsp%3D20%26tbs%3Disch:1" TargetMode="External"/><Relationship Id="rId14" Type="http://schemas.openxmlformats.org/officeDocument/2006/relationships/image" Target="../media/image2.jpeg"/><Relationship Id="rId15" Type="http://schemas.openxmlformats.org/officeDocument/2006/relationships/hyperlink" Target="http://www.google.com/imgres?imgurl=http://imstars.aufeminin.com/stars/fan/mark-wahlberg/mark-wahlberg-20060105-96202.jpg&amp;imgrefurl=http://www.sofeminine.co.uk/star/pictures-96202-mark-wahlberg.html&amp;usg=__Hyu6rZ0z0N-6WlJRDuyYXOiZITM=&amp;h=500&amp;w=332&amp;sz=49&amp;hl=en&amp;start=27&amp;itbs=1&amp;tbnid=umhkTtyF7_XsVM:&amp;tbnh=130&amp;tbnw=86&amp;prev=/images%3Fq%3Dmark%2Bwahlberg%26start%3D20%26hl%3Den%26safe%3Dstrict%26sa%3DN%26gbv%3D2%26ndsp%3D20%26tbs%3Disch:1" TargetMode="External"/><Relationship Id="rId16" Type="http://schemas.openxmlformats.org/officeDocument/2006/relationships/image" Target="../media/image2.jpeg"/><Relationship Id="rId17" Type="http://schemas.openxmlformats.org/officeDocument/2006/relationships/hyperlink" Target="http://www.google.com/imgres?imgurl=http://www.hindustantimes.com/Images/edstoryImg/211109/Matt-Damon.jpg&amp;imgrefurl=http://www.hindustantimes.com/Matt-Damon-to-become-dad-again/Article1-536701.aspx&amp;usg=__bWEtmnfvDI5lQcpmVHzKbGcM0bY=&amp;h=413&amp;w=298&amp;sz=15&amp;hl=en&amp;start=8&amp;itbs=1&amp;tbnid=JatLlovBoKVEWM:&amp;tbnh=125&amp;tbnw=90&amp;prev=/images%3Fq%3Dmatt%2Bdamon%26hl%3Den%26safe%3Dstrict%26gbv%3D2%26tbs%3Disch:1" TargetMode="External"/><Relationship Id="rId18" Type="http://schemas.openxmlformats.org/officeDocument/2006/relationships/image" Target="../media/image3.jpeg"/><Relationship Id="rId19" Type="http://schemas.openxmlformats.org/officeDocument/2006/relationships/hyperlink" Target="http://www.google.com/imgres?imgurl=http://imstars.aufeminin.com/stars/fan/mark-wahlberg/mark-wahlberg-20060105-96202.jpg&amp;imgrefurl=http://www.sofeminine.co.uk/star/pictures-96202-mark-wahlberg.html&amp;usg=__Hyu6rZ0z0N-6WlJRDuyYXOiZITM=&amp;h=500&amp;w=332&amp;sz=49&amp;hl=en&amp;start=27&amp;itbs=1&amp;tbnid=umhkTtyF7_XsVM:&amp;tbnh=130&amp;tbnw=86&amp;prev=/images%3Fq%3Dmark%2Bwahlberg%26start%3D20%26hl%3Den%26safe%3Dstrict%26sa%3DN%26gbv%3D2%26ndsp%3D20%26tbs%3Disch:1" TargetMode="External"/><Relationship Id="rId20" Type="http://schemas.openxmlformats.org/officeDocument/2006/relationships/image" Target="../media/image2.jpeg"/><Relationship Id="rId21" Type="http://schemas.openxmlformats.org/officeDocument/2006/relationships/hyperlink" Target="http://www.google.com/imgres?imgurl=http://www.hindustantimes.com/Images/edstoryImg/211109/Matt-Damon.jpg&amp;imgrefurl=http://www.hindustantimes.com/Matt-Damon-to-become-dad-again/Article1-536701.aspx&amp;usg=__bWEtmnfvDI5lQcpmVHzKbGcM0bY=&amp;h=413&amp;w=298&amp;sz=15&amp;hl=en&amp;start=8&amp;itbs=1&amp;tbnid=JatLlovBoKVEWM:&amp;tbnh=125&amp;tbnw=90&amp;prev=/images%3Fq%3Dmatt%2Bdamon%26hl%3Den%26safe%3Dstrict%26gbv%3D2%26tbs%3Disch:1" TargetMode="External"/><Relationship Id="rId22" Type="http://schemas.openxmlformats.org/officeDocument/2006/relationships/image" Target="../media/image3.jpeg"/><Relationship Id="rId23" Type="http://schemas.openxmlformats.org/officeDocument/2006/relationships/hyperlink" Target="http://www.google.com/imgres?imgurl=http://www.parcbench.com/wp-content/uploads/2009/08/24155pcn-jonas17-taylor-swift.jpg&amp;imgrefurl=http://www.parcbench.com/2009/08/12/losers-are-out-respect-is-in/&amp;usg=__ujEMopHoeVTaexlOpjTDCi-4Q_E=&amp;h=1399&amp;w=970&amp;sz=189&amp;hl=en&amp;start=3&amp;itbs=1&amp;tbnid=77XSKhAh-pjWJM:&amp;tbnh=150&amp;tbnw=104&amp;prev=/images%3Fq%3Dtaylor%2Bswift%26hl%3Den%26safe%3Dstrict%26gbv%3D2%26tbs%3Disch:1" TargetMode="External"/><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www.google.com/imgres?imgurl=http://insomniahenceinsanity.files.wordpress.com/2009/08/david-beckham-shows-his-new-angelic-tattoo_49.jpg&amp;imgrefurl=http://insomniahenceinsanity.wordpress.com/2009/08/30/591/&amp;usg=__f9Hr10BZC4FJH_8r3fSnuDyfnUY=&amp;h=528&amp;w=450&amp;sz=61&amp;hl=en&amp;start=38&amp;itbs=1&amp;tbnid=GyJpoOXjAl2UPM:&amp;tbnh=132&amp;tbnw=113&amp;prev=/images%3Fq%3Ddavid%2Bbeckham%26start%3D20%26hl%3Den%26safe%3Dstrict%26sa%3DN%26gbv%3D2%26ndsp%3D20%26tbs%3Disch:1" TargetMode="External"/><Relationship Id="rId8" Type="http://schemas.openxmlformats.org/officeDocument/2006/relationships/image" Target="../media/image1.jpeg"/><Relationship Id="rId9" Type="http://schemas.openxmlformats.org/officeDocument/2006/relationships/hyperlink" Target="http://www.google.com/imgres?imgurl=http://en.ce.cn/subject/06cup/photo/200607/03/W020060703329799838449.jpg&amp;imgrefurl=http://en.ce.cn/subject/06cup/photo/200607/03/t20060703_7589948.shtml&amp;usg=__AitmnLX3vkCRmBF439TKgnqr7DY=&amp;h=343&amp;w=480&amp;sz=49&amp;hl=en&amp;start=2&amp;itbs=1&amp;tbnid=nfhDc5F-asgkPM:&amp;tbnh=92&amp;tbnw=129&amp;prev=/images%3Fq%3Ddavid%2Bbeckham%2Band%2Bfamily%26hl%3Den%26safe%3Dstrict%26gbv%3D2%26tbs%3Disch:1" TargetMode="External"/><Relationship Id="rId10" Type="http://schemas.openxmlformats.org/officeDocument/2006/relationships/image" Target="../media/image5.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insomniahenceinsanity.files.wordpress.com/2009/08/david-beckham-shows-his-new-angelic-tattoo_49.jpg&amp;imgrefurl=http://insomniahenceinsanity.wordpress.com/2009/08/30/591/&amp;usg=__f9Hr10BZC4FJH_8r3fSnuDyfnUY=&amp;h=528&amp;w=450&amp;sz=61&amp;hl=en&amp;start=38&amp;itbs=1&amp;tbnid=GyJpoOXjAl2UPM:&amp;tbnh=132&amp;tbnw=113&amp;prev=/images%3Fq%3Ddavid%2Bbeckham%26start%3D20%26hl%3Den%26safe%3Dstrict%26sa%3DN%26gbv%3D2%26ndsp%3D20%26tbs%3Disch:1" TargetMode="External"/><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slide5.xml"/><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www.google.com/imgres?imgurl=http://insomniahenceinsanity.files.wordpress.com/2009/08/david-beckham-shows-his-new-angelic-tattoo_49.jpg&amp;imgrefurl=http://insomniahenceinsanity.wordpress.com/2009/08/30/591/&amp;usg=__f9Hr10BZC4FJH_8r3fSnuDyfnUY=&amp;h=528&amp;w=450&amp;sz=61&amp;hl=en&amp;start=38&amp;itbs=1&amp;tbnid=GyJpoOXjAl2UPM:&amp;tbnh=132&amp;tbnw=113&amp;prev=/images%3Fq%3Ddavid%2Bbeckham%26start%3D20%26hl%3Den%26safe%3Dstrict%26sa%3DN%26gbv%3D2%26ndsp%3D20%26tbs%3Disch:1" TargetMode="External"/><Relationship Id="rId7" Type="http://schemas.openxmlformats.org/officeDocument/2006/relationships/image" Target="../media/image1.jpeg"/><Relationship Id="rId8" Type="http://schemas.openxmlformats.org/officeDocument/2006/relationships/hyperlink" Target="http://www.google.com/imgres?imgurl=http://www.parcbench.com/wp-content/uploads/2009/08/24155pcn-jonas17-taylor-swift.jpg&amp;imgrefurl=http://www.parcbench.com/2009/08/12/losers-are-out-respect-is-in/&amp;usg=__ujEMopHoeVTaexlOpjTDCi-4Q_E=&amp;h=1399&amp;w=970&amp;sz=189&amp;hl=en&amp;start=3&amp;itbs=1&amp;tbnid=77XSKhAh-pjWJM:&amp;tbnh=150&amp;tbnw=104&amp;prev=/images%3Fq%3Dtaylor%2Bswift%26hl%3Den%26safe%3Dstrict%26gbv%3D2%26tbs%3Disch:1" TargetMode="External"/><Relationship Id="rId9" Type="http://schemas.openxmlformats.org/officeDocument/2006/relationships/image" Target="../media/image4.jpeg"/><Relationship Id="rId10" Type="http://schemas.openxmlformats.org/officeDocument/2006/relationships/hyperlink" Target="http://www.google.com/imgres?imgurl=http://imstars.aufeminin.com/stars/fan/mark-wahlberg/mark-wahlberg-20060105-96202.jpg&amp;imgrefurl=http://www.sofeminine.co.uk/star/pictures-96202-mark-wahlberg.html&amp;usg=__Hyu6rZ0z0N-6WlJRDuyYXOiZITM=&amp;h=500&amp;w=332&amp;sz=49&amp;hl=en&amp;start=27&amp;itbs=1&amp;tbnid=umhkTtyF7_XsVM:&amp;tbnh=130&amp;tbnw=86&amp;prev=/images%3Fq%3Dmark%2Bwahlberg%26start%3D20%26hl%3Den%26safe%3Dstrict%26sa%3DN%26gbv%3D2%26ndsp%3D20%26tbs%3Disch:1" TargetMode="External"/><Relationship Id="rId11" Type="http://schemas.openxmlformats.org/officeDocument/2006/relationships/image" Target="../media/image2.jpeg"/><Relationship Id="rId12" Type="http://schemas.openxmlformats.org/officeDocument/2006/relationships/hyperlink" Target="http://www.google.com/imgres?imgurl=http://news.bbc.co.uk/media/images/42486000/jpg/_42486291_oscars_kate.jpg&amp;imgrefurl=http://news.bbc.co.uk/cbbcnews/hi/newsid_6290000/newsid_6291800/6291825.stm&amp;usg=__Js6fkfvUQgSphKLh02TpSLvJu-U=&amp;h=300&amp;w=300&amp;sz=13&amp;hl=en&amp;start=4&amp;itbs=1&amp;tbnid=thes3CRhJi0ZhM:&amp;tbnh=116&amp;tbnw=116&amp;prev=/images%3Fq%3Dactresses%26hl%3Den%26safe%3Dstrict%26gbv%3D2%26tbs%3Disch:1" TargetMode="External"/><Relationship Id="rId13" Type="http://schemas.openxmlformats.org/officeDocument/2006/relationships/image" Target="../media/image6.jpeg"/><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www.parcbench.com/wp-content/uploads/2009/08/24155pcn-jonas17-taylor-swift.jpg&amp;imgrefurl=http://www.parcbench.com/2009/08/12/losers-are-out-respect-is-in/&amp;usg=__ujEMopHoeVTaexlOpjTDCi-4Q_E=&amp;h=1399&amp;w=970&amp;sz=189&amp;hl=en&amp;start=3&amp;itbs=1&amp;tbnid=77XSKhAh-pjWJM:&amp;tbnh=150&amp;tbnw=104&amp;prev=/images%3Fq%3Dtaylor%2Bswift%26hl%3Den%26safe%3Dstrict%26gbv%3D2%26tbs%3Disch:1" TargetMode="External"/><Relationship Id="rId6" Type="http://schemas.openxmlformats.org/officeDocument/2006/relationships/image" Target="../media/image4.jpeg"/><Relationship Id="rId7" Type="http://schemas.openxmlformats.org/officeDocument/2006/relationships/hyperlink" Target="http://www.google.com/imgres?imgurl=http://insomniahenceinsanity.files.wordpress.com/2009/08/david-beckham-shows-his-new-angelic-tattoo_49.jpg&amp;imgrefurl=http://insomniahenceinsanity.wordpress.com/2009/08/30/591/&amp;usg=__f9Hr10BZC4FJH_8r3fSnuDyfnUY=&amp;h=528&amp;w=450&amp;sz=61&amp;hl=en&amp;start=38&amp;itbs=1&amp;tbnid=GyJpoOXjAl2UPM:&amp;tbnh=132&amp;tbnw=113&amp;prev=/images%3Fq%3Ddavid%2Bbeckham%26start%3D20%26hl%3Den%26safe%3Dstrict%26sa%3DN%26gbv%3D2%26ndsp%3D20%26tbs%3Disch:1" TargetMode="External"/><Relationship Id="rId8" Type="http://schemas.openxmlformats.org/officeDocument/2006/relationships/image" Target="../media/image1.jpe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news.bbc.co.uk/media/images/42486000/jpg/_42486291_oscars_kate.jpg&amp;imgrefurl=http://news.bbc.co.uk/cbbcnews/hi/newsid_6290000/newsid_6291800/6291825.stm&amp;usg=__Js6fkfvUQgSphKLh02TpSLvJu-U=&amp;h=300&amp;w=300&amp;sz=13&amp;hl=en&amp;start=4&amp;itbs=1&amp;tbnid=thes3CRhJi0ZhM:&amp;tbnh=116&amp;tbnw=116&amp;prev=/images%3Fq%3Dactresses%26hl%3Den%26safe%3Dstrict%26gbv%3D2%26tbs%3Disch:1" TargetMode="External"/><Relationship Id="rId6" Type="http://schemas.openxmlformats.org/officeDocument/2006/relationships/image" Target="../media/image6.jpeg"/><Relationship Id="rId7" Type="http://schemas.openxmlformats.org/officeDocument/2006/relationships/hyperlink" Target="http://www.google.com/imgres?imgurl=http://insomniahenceinsanity.files.wordpress.com/2009/08/david-beckham-shows-his-new-angelic-tattoo_49.jpg&amp;imgrefurl=http://insomniahenceinsanity.wordpress.com/2009/08/30/591/&amp;usg=__f9Hr10BZC4FJH_8r3fSnuDyfnUY=&amp;h=528&amp;w=450&amp;sz=61&amp;hl=en&amp;start=38&amp;itbs=1&amp;tbnid=GyJpoOXjAl2UPM:&amp;tbnh=132&amp;tbnw=113&amp;prev=/images%3Fq%3Ddavid%2Bbeckham%26start%3D20%26hl%3Den%26safe%3Dstrict%26sa%3DN%26gbv%3D2%26ndsp%3D20%26tbs%3Disch:1" TargetMode="External"/><Relationship Id="rId8" Type="http://schemas.openxmlformats.org/officeDocument/2006/relationships/image" Target="../media/image1.jpeg"/><Relationship Id="rId9" Type="http://schemas.openxmlformats.org/officeDocument/2006/relationships/hyperlink" Target="http://www.google.com/imgres?imgurl=http://insomniahenceinsanity.files.wordpress.com/2009/08/david-beckham-shows-his-new-angelic-tattoo_49.jpg&amp;imgrefurl=http://insomniahenceinsanity.wordpress.com/2009/08/30/591/&amp;usg=__f9Hr10BZC4FJH_8r3fSnuDyfnUY=&amp;h=528&amp;w=450&amp;sz=61&amp;hl=en&amp;start=38&amp;itbs=1&amp;tbnid=GyJpoOXjAl2UPM:&amp;tbnh=132&amp;tbnw=113&amp;prev=/images%3Fq%3Ddavid%2Bbeckham%26start%3D20%26hl%3Den%26safe%3Dstrict%26sa%3DN%26gbv%3D2%26ndsp%3D20%26tbs%3Disch:1" TargetMode="External"/><Relationship Id="rId10" Type="http://schemas.openxmlformats.org/officeDocument/2006/relationships/image" Target="../media/image1.jpe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www.google.com/imgres?imgurl=http://insomniahenceinsanity.files.wordpress.com/2009/08/david-beckham-shows-his-new-angelic-tattoo_49.jpg&amp;imgrefurl=http://insomniahenceinsanity.wordpress.com/2009/08/30/591/&amp;usg=__f9Hr10BZC4FJH_8r3fSnuDyfnUY=&amp;h=528&amp;w=450&amp;sz=61&amp;hl=en&amp;start=38&amp;itbs=1&amp;tbnid=GyJpoOXjAl2UPM:&amp;tbnh=132&amp;tbnw=113&amp;prev=/images%3Fq%3Ddavid%2Bbeckham%26start%3D20%26hl%3Den%26safe%3Dstrict%26sa%3DN%26gbv%3D2%26ndsp%3D20%26tbs%3Disch:1" TargetMode="External"/><Relationship Id="rId7" Type="http://schemas.openxmlformats.org/officeDocument/2006/relationships/image" Target="../media/image1.jpeg"/><Relationship Id="rId8" Type="http://schemas.openxmlformats.org/officeDocument/2006/relationships/image" Target="../media/image2.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533520"/>
            <a:ext cx="6400800" cy="685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200" spc="-1" strike="noStrike">
                <a:solidFill>
                  <a:srgbClr val="000000"/>
                </a:solidFill>
                <a:latin typeface="Arial"/>
              </a:rPr>
              <a:t>I don’t know what to do… How could I be in love with </a:t>
            </a:r>
            <a:r>
              <a:rPr b="1" lang="en-US" sz="1200" spc="-1" strike="noStrike">
                <a:solidFill>
                  <a:srgbClr val="000000"/>
                </a:solidFill>
                <a:latin typeface="Arial"/>
              </a:rPr>
              <a:t>her</a:t>
            </a:r>
            <a:r>
              <a:rPr b="0" lang="en-US" sz="1200" spc="-1" strike="noStrike">
                <a:solidFill>
                  <a:srgbClr val="000000"/>
                </a:solidFill>
                <a:latin typeface="Arial"/>
              </a:rPr>
              <a:t> one day and completely in love with </a:t>
            </a:r>
            <a:r>
              <a:rPr b="1" lang="en-US" sz="1200" spc="-1" strike="noStrike">
                <a:solidFill>
                  <a:srgbClr val="000000"/>
                </a:solidFill>
                <a:latin typeface="Arial"/>
              </a:rPr>
              <a:t>her </a:t>
            </a:r>
            <a:r>
              <a:rPr b="0" lang="en-US" sz="1200" spc="-1" strike="noStrike">
                <a:solidFill>
                  <a:srgbClr val="000000"/>
                </a:solidFill>
                <a:latin typeface="Arial"/>
              </a:rPr>
              <a:t>the next? Give me a sign.</a:t>
            </a:r>
            <a:endParaRPr b="0" lang="en-US" sz="12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1814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81" name="Rectangle 39"/>
          <p:cNvSpPr/>
          <p:nvPr/>
        </p:nvSpPr>
        <p:spPr>
          <a:xfrm>
            <a:off x="2590920" y="2438280"/>
            <a:ext cx="449568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I’d rather have my heart torn out of my chest and stomped on than feel this way towards someone who doesn’t even love me back.</a:t>
            </a:r>
            <a:endParaRPr b="0" lang="en-US" sz="900" spc="-1" strike="noStrike">
              <a:solidFill>
                <a:srgbClr val="ffffff"/>
              </a:solidFill>
              <a:latin typeface="Arial"/>
            </a:endParaRPr>
          </a:p>
        </p:txBody>
      </p:sp>
      <p:sp>
        <p:nvSpPr>
          <p:cNvPr id="82" name="Text Box 40"/>
          <p:cNvSpPr/>
          <p:nvPr/>
        </p:nvSpPr>
        <p:spPr>
          <a:xfrm>
            <a:off x="2666880" y="3809880"/>
            <a:ext cx="4648320" cy="60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ercutio </a:t>
            </a:r>
            <a:r>
              <a:rPr b="0" lang="en-US" sz="900" spc="-1" strike="noStrike">
                <a:solidFill>
                  <a:srgbClr val="000000"/>
                </a:solidFill>
                <a:latin typeface="Arial"/>
              </a:rPr>
              <a:t>Yeah Romeo… you know that I aint no one who judges but why are you still</a:t>
            </a:r>
            <a:endParaRPr b="0" lang="en-US" sz="9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 </a:t>
            </a:r>
            <a:r>
              <a:rPr b="0" lang="en-US" sz="900" spc="-1" strike="noStrike">
                <a:solidFill>
                  <a:srgbClr val="000000"/>
                </a:solidFill>
                <a:latin typeface="Arial"/>
              </a:rPr>
              <a:t>worried about this girl?</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83" name="Rectangle 43"/>
          <p:cNvSpPr/>
          <p:nvPr/>
        </p:nvSpPr>
        <p:spPr>
          <a:xfrm>
            <a:off x="2590920" y="3124080"/>
            <a:ext cx="4495680" cy="609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a:t>
            </a:r>
            <a:r>
              <a:rPr b="0" lang="en-US" sz="900" spc="-1" strike="noStrike">
                <a:solidFill>
                  <a:srgbClr val="000000"/>
                </a:solidFill>
                <a:latin typeface="Arial"/>
              </a:rPr>
              <a:t>Yo, Romeo…If you’re still trippin over this Rosaline, you need to realize how much better you could do. Don’t be down in the dumps over this chick.</a:t>
            </a:r>
            <a:endParaRPr b="0" lang="en-US" sz="900" spc="-1" strike="noStrike">
              <a:solidFill>
                <a:srgbClr val="ffffff"/>
              </a:solidFill>
              <a:latin typeface="Arial"/>
            </a:endParaRPr>
          </a:p>
        </p:txBody>
      </p:sp>
      <p:sp>
        <p:nvSpPr>
          <p:cNvPr id="84" name="Rectangle 44"/>
          <p:cNvSpPr/>
          <p:nvPr/>
        </p:nvSpPr>
        <p:spPr>
          <a:xfrm>
            <a:off x="2666880" y="5943600"/>
            <a:ext cx="4496040" cy="609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a:t>
            </a:r>
            <a:r>
              <a:rPr b="0" lang="en-US" sz="900" spc="-1" strike="noStrike">
                <a:solidFill>
                  <a:srgbClr val="000000"/>
                </a:solidFill>
                <a:latin typeface="Arial"/>
              </a:rPr>
              <a:t>  It wasn’t even your fault… how can they put all the blame on you? You need to tell them whats up!</a:t>
            </a:r>
            <a:endParaRPr b="0" lang="en-US" sz="900" spc="-1" strike="noStrike">
              <a:solidFill>
                <a:srgbClr val="ffffff"/>
              </a:solidFill>
              <a:latin typeface="Arial"/>
            </a:endParaRPr>
          </a:p>
        </p:txBody>
      </p:sp>
      <p:sp>
        <p:nvSpPr>
          <p:cNvPr id="85" name="Rectangle 45"/>
          <p:cNvSpPr/>
          <p:nvPr/>
        </p:nvSpPr>
        <p:spPr>
          <a:xfrm>
            <a:off x="2590920" y="4648320"/>
            <a:ext cx="449568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I never thought I’d see the day that I met a girl more attractive than Rosaline…I’m just happy to finally realize what I’ve been missing out on all this time.</a:t>
            </a:r>
            <a:endParaRPr b="0" lang="en-US" sz="900" spc="-1" strike="noStrike">
              <a:solidFill>
                <a:srgbClr val="ffffff"/>
              </a:solidFill>
              <a:latin typeface="Arial"/>
            </a:endParaRPr>
          </a:p>
        </p:txBody>
      </p:sp>
      <p:sp>
        <p:nvSpPr>
          <p:cNvPr id="86" name="Rectangle 46"/>
          <p:cNvSpPr/>
          <p:nvPr/>
        </p:nvSpPr>
        <p:spPr>
          <a:xfrm>
            <a:off x="2590920" y="5257800"/>
            <a:ext cx="4495680" cy="609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I’m BANISHED. How did I get myself into this disaster? How will I ever live after this?</a:t>
            </a:r>
            <a:endParaRPr b="0" lang="en-US" sz="900" spc="-1" strike="noStrike">
              <a:solidFill>
                <a:srgbClr val="ffffff"/>
              </a:solidFill>
              <a:latin typeface="Arial"/>
            </a:endParaRPr>
          </a:p>
        </p:txBody>
      </p:sp>
      <p:sp>
        <p:nvSpPr>
          <p:cNvPr id="87"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89" name=""/>
          <p:cNvGraphicFramePr/>
          <p:nvPr/>
        </p:nvGraphicFramePr>
        <p:xfrm>
          <a:off x="228600" y="1752480"/>
          <a:ext cx="1447920" cy="594000"/>
        </p:xfrm>
        <a:graphic>
          <a:graphicData uri="http://schemas.openxmlformats.org/drawingml/2006/table">
            <a:tbl>
              <a:tblPr/>
              <a:tblGrid>
                <a:gridCol w="1447920"/>
              </a:tblGrid>
              <a:tr h="59400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m giving my all, I just need to know if you want me too.”</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0" name="" descr="">
            <a:hlinkClick r:id="rId5"/>
          </p:cNvPr>
          <p:cNvPicPr/>
          <p:nvPr/>
        </p:nvPicPr>
        <p:blipFill>
          <a:blip r:embed="rId6"/>
          <a:stretch/>
        </p:blipFill>
        <p:spPr>
          <a:xfrm>
            <a:off x="380880" y="380880"/>
            <a:ext cx="1141560" cy="1333800"/>
          </a:xfrm>
          <a:prstGeom prst="rect">
            <a:avLst/>
          </a:prstGeom>
          <a:ln w="0">
            <a:noFill/>
          </a:ln>
        </p:spPr>
      </p:pic>
      <p:pic>
        <p:nvPicPr>
          <p:cNvPr id="91" name="" descr="">
            <a:hlinkClick r:id="rId7"/>
          </p:cNvPr>
          <p:cNvPicPr/>
          <p:nvPr/>
        </p:nvPicPr>
        <p:blipFill>
          <a:blip r:embed="rId8"/>
          <a:stretch/>
        </p:blipFill>
        <p:spPr>
          <a:xfrm>
            <a:off x="2133720" y="5257800"/>
            <a:ext cx="407880" cy="476280"/>
          </a:xfrm>
          <a:prstGeom prst="rect">
            <a:avLst/>
          </a:prstGeom>
          <a:ln w="0">
            <a:noFill/>
          </a:ln>
        </p:spPr>
      </p:pic>
      <p:pic>
        <p:nvPicPr>
          <p:cNvPr id="92" name="" descr="">
            <a:hlinkClick r:id="rId9"/>
          </p:cNvPr>
          <p:cNvPicPr/>
          <p:nvPr/>
        </p:nvPicPr>
        <p:blipFill>
          <a:blip r:embed="rId10"/>
          <a:stretch/>
        </p:blipFill>
        <p:spPr>
          <a:xfrm>
            <a:off x="2133720" y="4648320"/>
            <a:ext cx="423720" cy="495360"/>
          </a:xfrm>
          <a:prstGeom prst="rect">
            <a:avLst/>
          </a:prstGeom>
          <a:ln w="0">
            <a:noFill/>
          </a:ln>
        </p:spPr>
      </p:pic>
      <p:pic>
        <p:nvPicPr>
          <p:cNvPr id="93" name="" descr="">
            <a:hlinkClick r:id="rId11"/>
          </p:cNvPr>
          <p:cNvPicPr/>
          <p:nvPr/>
        </p:nvPicPr>
        <p:blipFill>
          <a:blip r:embed="rId12"/>
          <a:stretch/>
        </p:blipFill>
        <p:spPr>
          <a:xfrm>
            <a:off x="2133720" y="2514600"/>
            <a:ext cx="407880" cy="476280"/>
          </a:xfrm>
          <a:prstGeom prst="rect">
            <a:avLst/>
          </a:prstGeom>
          <a:ln w="0">
            <a:noFill/>
          </a:ln>
        </p:spPr>
      </p:pic>
      <p:pic>
        <p:nvPicPr>
          <p:cNvPr id="94" name="" descr="">
            <a:hlinkClick r:id="rId13"/>
          </p:cNvPr>
          <p:cNvPicPr/>
          <p:nvPr/>
        </p:nvPicPr>
        <p:blipFill>
          <a:blip r:embed="rId14"/>
          <a:stretch/>
        </p:blipFill>
        <p:spPr>
          <a:xfrm>
            <a:off x="2133720" y="3048120"/>
            <a:ext cx="409320" cy="618840"/>
          </a:xfrm>
          <a:prstGeom prst="rect">
            <a:avLst/>
          </a:prstGeom>
          <a:ln w="0">
            <a:noFill/>
          </a:ln>
        </p:spPr>
      </p:pic>
      <p:pic>
        <p:nvPicPr>
          <p:cNvPr id="95" name="" descr="">
            <a:hlinkClick r:id="rId15"/>
          </p:cNvPr>
          <p:cNvPicPr/>
          <p:nvPr/>
        </p:nvPicPr>
        <p:blipFill>
          <a:blip r:embed="rId16"/>
          <a:stretch/>
        </p:blipFill>
        <p:spPr>
          <a:xfrm>
            <a:off x="2133720" y="5867280"/>
            <a:ext cx="415800" cy="628920"/>
          </a:xfrm>
          <a:prstGeom prst="rect">
            <a:avLst/>
          </a:prstGeom>
          <a:ln w="0">
            <a:noFill/>
          </a:ln>
        </p:spPr>
      </p:pic>
      <p:pic>
        <p:nvPicPr>
          <p:cNvPr id="96" name="" descr="">
            <a:hlinkClick r:id="rId17"/>
          </p:cNvPr>
          <p:cNvPicPr/>
          <p:nvPr/>
        </p:nvPicPr>
        <p:blipFill>
          <a:blip r:embed="rId18"/>
          <a:stretch/>
        </p:blipFill>
        <p:spPr>
          <a:xfrm>
            <a:off x="2133720" y="3809880"/>
            <a:ext cx="426960" cy="595440"/>
          </a:xfrm>
          <a:prstGeom prst="rect">
            <a:avLst/>
          </a:prstGeom>
          <a:ln w="0">
            <a:noFill/>
          </a:ln>
        </p:spPr>
      </p:pic>
      <p:pic>
        <p:nvPicPr>
          <p:cNvPr id="97" name="" descr="">
            <a:hlinkClick r:id="rId19"/>
          </p:cNvPr>
          <p:cNvPicPr/>
          <p:nvPr/>
        </p:nvPicPr>
        <p:blipFill>
          <a:blip r:embed="rId20"/>
          <a:stretch/>
        </p:blipFill>
        <p:spPr>
          <a:xfrm>
            <a:off x="685800" y="5562720"/>
            <a:ext cx="415800" cy="628560"/>
          </a:xfrm>
          <a:prstGeom prst="rect">
            <a:avLst/>
          </a:prstGeom>
          <a:ln w="0">
            <a:noFill/>
          </a:ln>
        </p:spPr>
      </p:pic>
      <p:pic>
        <p:nvPicPr>
          <p:cNvPr id="98" name="" descr="">
            <a:hlinkClick r:id="rId21"/>
          </p:cNvPr>
          <p:cNvPicPr/>
          <p:nvPr/>
        </p:nvPicPr>
        <p:blipFill>
          <a:blip r:embed="rId22"/>
          <a:stretch/>
        </p:blipFill>
        <p:spPr>
          <a:xfrm>
            <a:off x="1295280" y="5562720"/>
            <a:ext cx="427320" cy="595080"/>
          </a:xfrm>
          <a:prstGeom prst="rect">
            <a:avLst/>
          </a:prstGeom>
          <a:ln w="0">
            <a:noFill/>
          </a:ln>
        </p:spPr>
      </p:pic>
      <p:pic>
        <p:nvPicPr>
          <p:cNvPr id="99" name="" descr="">
            <a:hlinkClick r:id="rId23"/>
          </p:cNvPr>
          <p:cNvPicPr/>
          <p:nvPr/>
        </p:nvPicPr>
        <p:blipFill>
          <a:blip r:embed="rId24"/>
          <a:stretch/>
        </p:blipFill>
        <p:spPr>
          <a:xfrm>
            <a:off x="152280" y="5562720"/>
            <a:ext cx="409680" cy="590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2"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3"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4"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200" spc="-1" strike="noStrike">
                <a:solidFill>
                  <a:srgbClr val="000000"/>
                </a:solidFill>
                <a:latin typeface="Arial"/>
              </a:rPr>
              <a:t>I don’t know what to do… How could I be in love with </a:t>
            </a:r>
            <a:r>
              <a:rPr b="1" lang="en-US" sz="1200" spc="-1" strike="noStrike">
                <a:solidFill>
                  <a:srgbClr val="000000"/>
                </a:solidFill>
                <a:latin typeface="Arial"/>
              </a:rPr>
              <a:t>her</a:t>
            </a:r>
            <a:r>
              <a:rPr b="0" lang="en-US" sz="1200" spc="-1" strike="noStrike">
                <a:solidFill>
                  <a:srgbClr val="000000"/>
                </a:solidFill>
                <a:latin typeface="Arial"/>
              </a:rPr>
              <a:t> one day and completely in love with </a:t>
            </a:r>
            <a:r>
              <a:rPr b="1" lang="en-US" sz="1200" spc="-1" strike="noStrike">
                <a:solidFill>
                  <a:srgbClr val="000000"/>
                </a:solidFill>
                <a:latin typeface="Arial"/>
              </a:rPr>
              <a:t>her </a:t>
            </a:r>
            <a:r>
              <a:rPr b="0" lang="en-US" sz="1200" spc="-1" strike="noStrike">
                <a:solidFill>
                  <a:srgbClr val="000000"/>
                </a:solidFill>
                <a:latin typeface="Arial"/>
              </a:rPr>
              <a:t>the next? Give me a sign.</a:t>
            </a:r>
            <a:endParaRPr b="0" lang="en-US" sz="1200" spc="-1" strike="noStrike">
              <a:solidFill>
                <a:srgbClr val="ffffff"/>
              </a:solidFill>
              <a:latin typeface="Arial"/>
            </a:endParaRPr>
          </a:p>
        </p:txBody>
      </p:sp>
      <p:sp>
        <p:nvSpPr>
          <p:cNvPr id="105"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6"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7"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8"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09"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2"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3"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4"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5"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6"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19"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0"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1"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2"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4"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5"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 name="Text Box 28"/>
          <p:cNvSpPr/>
          <p:nvPr/>
        </p:nvSpPr>
        <p:spPr>
          <a:xfrm>
            <a:off x="152280" y="358128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7"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29"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0"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ugust 2n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atholic</a:t>
            </a:r>
            <a:endParaRPr b="0" lang="en-US" sz="800" spc="-1" strike="noStrike">
              <a:solidFill>
                <a:srgbClr val="ffffff"/>
              </a:solidFill>
              <a:latin typeface="Arial"/>
            </a:endParaRPr>
          </a:p>
        </p:txBody>
      </p:sp>
      <p:sp>
        <p:nvSpPr>
          <p:cNvPr id="131"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to read; write; and chill with my friends, family, and girl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                          </a:t>
            </a:r>
            <a:r>
              <a:rPr b="0" lang="en-US" sz="800" spc="-1" strike="noStrike">
                <a:solidFill>
                  <a:srgbClr val="000000"/>
                </a:solidFill>
                <a:latin typeface="Arial"/>
              </a:rPr>
              <a:t>girl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seether, five finger death punch, slipknot, linkin’ park, greenday</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               </a:t>
            </a:r>
            <a:r>
              <a:rPr b="0" lang="en-US" sz="800" spc="-1" strike="noStrike">
                <a:solidFill>
                  <a:srgbClr val="000000"/>
                </a:solidFill>
                <a:latin typeface="Arial"/>
              </a:rPr>
              <a:t>last song, bend it like beckham, pearl harbor</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deadliest catch, modern marvels, life after peopl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wilight, New moon, Eclipse, Breaking Dawn</a:t>
            </a:r>
            <a:endParaRPr b="0" lang="en-US" sz="800" spc="-1" strike="noStrike">
              <a:solidFill>
                <a:srgbClr val="ffffff"/>
              </a:solidFill>
              <a:latin typeface="Arial"/>
            </a:endParaRPr>
          </a:p>
        </p:txBody>
      </p:sp>
      <p:sp>
        <p:nvSpPr>
          <p:cNvPr id="132" name="Text Box 35"/>
          <p:cNvSpPr/>
          <p:nvPr/>
        </p:nvSpPr>
        <p:spPr>
          <a:xfrm>
            <a:off x="304920" y="5105520"/>
            <a:ext cx="8380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1 Album</a:t>
            </a:r>
            <a:endParaRPr b="0" lang="en-US" sz="700" spc="-1" strike="noStrike">
              <a:solidFill>
                <a:srgbClr val="ffffff"/>
              </a:solidFill>
              <a:latin typeface="Arial"/>
            </a:endParaRPr>
          </a:p>
        </p:txBody>
      </p:sp>
      <p:sp>
        <p:nvSpPr>
          <p:cNvPr id="133"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4"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endParaRPr b="0" lang="en-US" sz="800" spc="-1" strike="noStrike">
              <a:solidFill>
                <a:srgbClr val="ffffff"/>
              </a:solidFill>
              <a:latin typeface="Arial"/>
            </a:endParaRPr>
          </a:p>
        </p:txBody>
      </p:sp>
      <p:graphicFrame>
        <p:nvGraphicFramePr>
          <p:cNvPr id="136" name=""/>
          <p:cNvGraphicFramePr/>
          <p:nvPr/>
        </p:nvGraphicFramePr>
        <p:xfrm>
          <a:off x="152280" y="1752480"/>
          <a:ext cx="1295640" cy="698760"/>
        </p:xfrm>
        <a:graphic>
          <a:graphicData uri="http://schemas.openxmlformats.org/drawingml/2006/table">
            <a:tbl>
              <a:tblPr/>
              <a:tblGrid>
                <a:gridCol w="1295640"/>
              </a:tblGrid>
              <a:tr h="7005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m giving my all, I just need to know if you want me too.”</a:t>
                      </a: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7" name="" descr="">
            <a:hlinkClick r:id="rId7"/>
          </p:cNvPr>
          <p:cNvPicPr/>
          <p:nvPr/>
        </p:nvPicPr>
        <p:blipFill>
          <a:blip r:embed="rId8"/>
          <a:stretch/>
        </p:blipFill>
        <p:spPr>
          <a:xfrm>
            <a:off x="228600" y="380880"/>
            <a:ext cx="1141560" cy="1333800"/>
          </a:xfrm>
          <a:prstGeom prst="rect">
            <a:avLst/>
          </a:prstGeom>
          <a:ln w="0">
            <a:noFill/>
          </a:ln>
        </p:spPr>
      </p:pic>
      <p:pic>
        <p:nvPicPr>
          <p:cNvPr id="138" name="" descr="">
            <a:hlinkClick r:id="rId9"/>
          </p:cNvPr>
          <p:cNvPicPr/>
          <p:nvPr/>
        </p:nvPicPr>
        <p:blipFill>
          <a:blip r:embed="rId10"/>
          <a:stretch/>
        </p:blipFill>
        <p:spPr>
          <a:xfrm>
            <a:off x="152280" y="5334120"/>
            <a:ext cx="843120" cy="601560"/>
          </a:xfrm>
          <a:prstGeom prst="rect">
            <a:avLst/>
          </a:prstGeom>
          <a:ln w="0">
            <a:noFill/>
          </a:ln>
        </p:spPr>
      </p:pic>
      <p:sp>
        <p:nvSpPr>
          <p:cNvPr id="139" name=""/>
          <p:cNvSpPr/>
          <p:nvPr/>
        </p:nvSpPr>
        <p:spPr>
          <a:xfrm>
            <a:off x="1143000" y="5486400"/>
            <a:ext cx="685800" cy="5378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My fam</a:t>
            </a:r>
            <a:endParaRPr b="0" lang="en-US" sz="900" spc="-1" strike="noStrike">
              <a:solidFill>
                <a:srgbClr val="ffffff"/>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Updated last week</a:t>
            </a:r>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48"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49"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0"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1"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2"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3" name="Text Box 15"/>
          <p:cNvSpPr/>
          <p:nvPr/>
        </p:nvSpPr>
        <p:spPr>
          <a:xfrm>
            <a:off x="609480" y="1523880"/>
            <a:ext cx="6248520" cy="2467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Text Message Conversation with Rosaline</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Romeo: Are you there? Why are you mad at me? How come you don’t care about me?</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Rosaline: Yeah… I’m not mad… I just don’t want to be with you.</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Romeo: Y? All I do is think about u and u just ignore me.</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Rosaline: well, I told u I don’t want to talk to u and all you do is keep at it. Leave me alone and maybe you wont be so heart-broken…</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Romeo: What do you mean heart-broken? I’m over u…</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Rosaline: Sure. That’s why all your friends keep telling you to cheer up.. Cuz you’re “fine”. I saw what they said.</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Romeo: whatever. Why don’t you keep your nose in your own business? Im over you but obviously u still got a thing for me if you’re snooping around on here?</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Rosaline: Okay… Romeo. Just leave me alone. You’re only mad cuz I never wanted you back</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Romeo: Alright. I hate you. Leave me alone and I’ll leave you alone.</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Rosaline: I already left you alone. You bothered me check the message above…</a:t>
            </a:r>
            <a:endParaRPr b="0" lang="en-US" sz="800" spc="-1" strike="noStrike">
              <a:solidFill>
                <a:srgbClr val="ffffff"/>
              </a:solidFill>
              <a:latin typeface="Arial"/>
            </a:endParaRPr>
          </a:p>
        </p:txBody>
      </p:sp>
      <p:sp>
        <p:nvSpPr>
          <p:cNvPr id="154" name="Text Box 16"/>
          <p:cNvSpPr/>
          <p:nvPr/>
        </p:nvSpPr>
        <p:spPr>
          <a:xfrm>
            <a:off x="533520" y="5105520"/>
            <a:ext cx="6476760" cy="1186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5"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800" spc="-1" strike="noStrike">
                <a:solidFill>
                  <a:srgbClr val="000000"/>
                </a:solidFill>
                <a:latin typeface="Arial"/>
              </a:rPr>
              <a:t> </a:t>
            </a:r>
            <a:r>
              <a:rPr b="0" lang="en-US" sz="900" spc="-1" strike="noStrike">
                <a:solidFill>
                  <a:srgbClr val="000000"/>
                </a:solidFill>
                <a:latin typeface="Arial"/>
              </a:rPr>
              <a:t>I don’t know what to do… How could I be in love with </a:t>
            </a:r>
            <a:r>
              <a:rPr b="1" lang="en-US" sz="900" spc="-1" strike="noStrike">
                <a:solidFill>
                  <a:srgbClr val="000000"/>
                </a:solidFill>
                <a:latin typeface="Arial"/>
              </a:rPr>
              <a:t>her</a:t>
            </a:r>
            <a:r>
              <a:rPr b="0" lang="en-US" sz="900" spc="-1" strike="noStrike">
                <a:solidFill>
                  <a:srgbClr val="000000"/>
                </a:solidFill>
                <a:latin typeface="Arial"/>
              </a:rPr>
              <a:t> one day and completely in love with </a:t>
            </a:r>
            <a:r>
              <a:rPr b="1" lang="en-US" sz="900" spc="-1" strike="noStrike">
                <a:solidFill>
                  <a:srgbClr val="000000"/>
                </a:solidFill>
                <a:latin typeface="Arial"/>
              </a:rPr>
              <a:t>her </a:t>
            </a:r>
            <a:r>
              <a:rPr b="0" lang="en-US" sz="900" spc="-1" strike="noStrike">
                <a:solidFill>
                  <a:srgbClr val="000000"/>
                </a:solidFill>
                <a:latin typeface="Arial"/>
              </a:rPr>
              <a:t>the next? Give me a sign.</a:t>
            </a:r>
            <a:endParaRPr b="0" lang="en-US" sz="9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6" name="Rectangle 20"/>
          <p:cNvSpPr/>
          <p:nvPr/>
        </p:nvSpPr>
        <p:spPr>
          <a:xfrm>
            <a:off x="457200" y="1371600"/>
            <a:ext cx="6553080" cy="30481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7" name="Rectangle 21"/>
          <p:cNvSpPr/>
          <p:nvPr/>
        </p:nvSpPr>
        <p:spPr>
          <a:xfrm>
            <a:off x="457200" y="4495680"/>
            <a:ext cx="66294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Rectangle 22"/>
          <p:cNvSpPr/>
          <p:nvPr/>
        </p:nvSpPr>
        <p:spPr>
          <a:xfrm>
            <a:off x="457200" y="4701600"/>
            <a:ext cx="6629400" cy="15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log about </a:t>
            </a:r>
            <a:r>
              <a:rPr b="1" i="1" lang="en-US" sz="1400" spc="-1" strike="noStrike">
                <a:solidFill>
                  <a:srgbClr val="000000"/>
                </a:solidFill>
                <a:latin typeface="Arial"/>
              </a:rPr>
              <a:t>her</a:t>
            </a:r>
            <a:r>
              <a:rPr b="0" lang="en-US" sz="1400" spc="-1" strike="noStrike">
                <a:solidFill>
                  <a:srgbClr val="000000"/>
                </a:solidFill>
                <a:latin typeface="Arial"/>
              </a:rPr>
              <a:t>:</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emales used to be a thing that crossed my mind like melody and harmony. Now that I have met her, she’s all I can think about. I used to have feelings for one, but that was before I met you. Now, You’re all I can think about. I want you and you say you want me back, but I don’t know if that’s true because every time we get together, we have to snoop around behind everyone’s back. I love you. I just need a sign. Tell me if my time is worth you.</a:t>
            </a:r>
            <a:endParaRPr b="0" lang="en-US" sz="1400" spc="-1" strike="noStrike">
              <a:solidFill>
                <a:srgbClr val="ffffff"/>
              </a:solidFill>
              <a:latin typeface="Arial"/>
            </a:endParaRPr>
          </a:p>
        </p:txBody>
      </p:sp>
      <p:pic>
        <p:nvPicPr>
          <p:cNvPr id="159" name="" descr="">
            <a:hlinkClick r:id="rId5"/>
          </p:cNvPr>
          <p:cNvPicPr/>
          <p:nvPr/>
        </p:nvPicPr>
        <p:blipFill>
          <a:blip r:embed="rId6"/>
          <a:stretch/>
        </p:blipFill>
        <p:spPr>
          <a:xfrm>
            <a:off x="152280" y="457200"/>
            <a:ext cx="749520" cy="87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3" name="Rectangle 8"/>
          <p:cNvSpPr/>
          <p:nvPr/>
        </p:nvSpPr>
        <p:spPr>
          <a:xfrm>
            <a:off x="6324480" y="0"/>
            <a:ext cx="17528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6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6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1"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3" action="ppaction://hlinksldjump"/>
              </a:rPr>
              <a:t>I love you!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take being away from you. Mantua is too far…</a:t>
            </a:r>
            <a:endParaRPr b="0" lang="en-US" sz="1200" spc="-1" strike="noStrike">
              <a:solidFill>
                <a:srgbClr val="ffffff"/>
              </a:solidFill>
              <a:latin typeface="Arial"/>
            </a:endParaRPr>
          </a:p>
        </p:txBody>
      </p:sp>
      <p:sp>
        <p:nvSpPr>
          <p:cNvPr id="172" name="Text Box 10">
            <a:hlinkClick r:id="rId4" action="ppaction://hlinksldjump"/>
          </p:cNvPr>
          <p:cNvSpPr/>
          <p:nvPr/>
        </p:nvSpPr>
        <p:spPr>
          <a:xfrm>
            <a:off x="205740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3" name="Text Box 10">
            <a:hlinkClick r:id="rId5" action="ppaction://hlinksldjump"/>
          </p:cNvPr>
          <p:cNvSpPr/>
          <p:nvPr/>
        </p:nvSpPr>
        <p:spPr>
          <a:xfrm>
            <a:off x="28954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4"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5"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TextBox 34"/>
          <p:cNvSpPr/>
          <p:nvPr/>
        </p:nvSpPr>
        <p:spPr>
          <a:xfrm>
            <a:off x="1219320" y="52578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d2d2f4"/>
                </a:solidFill>
                <a:uFillTx/>
                <a:latin typeface="Arial"/>
              </a:rPr>
              <a:t>New girrrr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finally found a girl? Wow, I’m surprised you could…</a:t>
            </a:r>
            <a:endParaRPr b="0" lang="en-US" sz="1200" spc="-1" strike="noStrike">
              <a:solidFill>
                <a:srgbClr val="ffffff"/>
              </a:solidFill>
              <a:latin typeface="Arial"/>
            </a:endParaRPr>
          </a:p>
        </p:txBody>
      </p:sp>
      <p:pic>
        <p:nvPicPr>
          <p:cNvPr id="178" name="" descr="">
            <a:hlinkClick r:id="rId6"/>
          </p:cNvPr>
          <p:cNvPicPr/>
          <p:nvPr/>
        </p:nvPicPr>
        <p:blipFill>
          <a:blip r:embed="rId7"/>
          <a:stretch/>
        </p:blipFill>
        <p:spPr>
          <a:xfrm>
            <a:off x="152280" y="457200"/>
            <a:ext cx="881280" cy="1028880"/>
          </a:xfrm>
          <a:prstGeom prst="rect">
            <a:avLst/>
          </a:prstGeom>
          <a:ln w="0">
            <a:noFill/>
          </a:ln>
        </p:spPr>
      </p:pic>
      <p:pic>
        <p:nvPicPr>
          <p:cNvPr id="179" name="" descr="">
            <a:hlinkClick r:id="rId8"/>
          </p:cNvPr>
          <p:cNvPicPr/>
          <p:nvPr/>
        </p:nvPicPr>
        <p:blipFill>
          <a:blip r:embed="rId9"/>
          <a:stretch/>
        </p:blipFill>
        <p:spPr>
          <a:xfrm>
            <a:off x="304920" y="1905120"/>
            <a:ext cx="938160" cy="1352520"/>
          </a:xfrm>
          <a:prstGeom prst="rect">
            <a:avLst/>
          </a:prstGeom>
          <a:ln w="0">
            <a:noFill/>
          </a:ln>
        </p:spPr>
      </p:pic>
      <p:pic>
        <p:nvPicPr>
          <p:cNvPr id="180" name="" descr="">
            <a:hlinkClick r:id="rId10"/>
          </p:cNvPr>
          <p:cNvPicPr/>
          <p:nvPr/>
        </p:nvPicPr>
        <p:blipFill>
          <a:blip r:embed="rId11"/>
          <a:stretch/>
        </p:blipFill>
        <p:spPr>
          <a:xfrm>
            <a:off x="228600" y="5105520"/>
            <a:ext cx="920880" cy="1390680"/>
          </a:xfrm>
          <a:prstGeom prst="rect">
            <a:avLst/>
          </a:prstGeom>
          <a:ln w="0">
            <a:noFill/>
          </a:ln>
        </p:spPr>
      </p:pic>
      <p:pic>
        <p:nvPicPr>
          <p:cNvPr id="181" name="" descr="">
            <a:hlinkClick r:id="rId12"/>
          </p:cNvPr>
          <p:cNvPicPr/>
          <p:nvPr/>
        </p:nvPicPr>
        <p:blipFill>
          <a:blip r:embed="rId13"/>
          <a:stretch/>
        </p:blipFill>
        <p:spPr>
          <a:xfrm>
            <a:off x="228600" y="3581280"/>
            <a:ext cx="1104840" cy="1105200"/>
          </a:xfrm>
          <a:prstGeom prst="rect">
            <a:avLst/>
          </a:prstGeom>
          <a:ln w="0">
            <a:noFill/>
          </a:ln>
        </p:spPr>
      </p:pic>
      <p:sp>
        <p:nvSpPr>
          <p:cNvPr id="182" name=""/>
          <p:cNvSpPr/>
          <p:nvPr/>
        </p:nvSpPr>
        <p:spPr>
          <a:xfrm>
            <a:off x="1447920" y="3505320"/>
            <a:ext cx="419076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99"/>
                </a:solidFill>
                <a:latin typeface="Arial"/>
              </a:rPr>
              <a:t>Rosalin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ccccff"/>
                </a:solidFill>
                <a:uFillTx/>
                <a:latin typeface="Arial"/>
              </a:rPr>
              <a:t>We’re over</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ate you! I cant believe anything you ever say…</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8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8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3"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4"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5"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6" name="TextBox 24"/>
          <p:cNvSpPr/>
          <p:nvPr/>
        </p:nvSpPr>
        <p:spPr>
          <a:xfrm>
            <a:off x="1828800" y="1981080"/>
            <a:ext cx="6400800" cy="26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 cant take being away from you. Mantua is too far for me to be thinking about. Even though I love you with all my heart, I don’t know if I can take not being able to see you. I saw what you put on your blog. If that’s about me then I want you to know one thing…I do want to be with you and I know that we have been sneaking around everyone but think about it. My father says he just wants me to be happy, but now he’s trying to get me to be with Paris. I don’t want to do this, but I’m afraid this will have to be what it is right now. Of course your time is worth my while. I want to see your beautiful face…You’re all I can think of and I need you right now more than ever. Please don’t give up on me in my time of need, baby.  You’re the only one who understands our difficulties and I just want us to be happy. :)</a:t>
            </a:r>
            <a:endParaRPr b="0" lang="en-US" sz="1400" spc="-1" strike="noStrike">
              <a:solidFill>
                <a:srgbClr val="ffffff"/>
              </a:solidFill>
              <a:latin typeface="Arial"/>
            </a:endParaRPr>
          </a:p>
        </p:txBody>
      </p:sp>
      <p:pic>
        <p:nvPicPr>
          <p:cNvPr id="197" name="" descr="">
            <a:hlinkClick r:id="rId5"/>
          </p:cNvPr>
          <p:cNvPicPr/>
          <p:nvPr/>
        </p:nvPicPr>
        <p:blipFill>
          <a:blip r:embed="rId6"/>
          <a:stretch/>
        </p:blipFill>
        <p:spPr>
          <a:xfrm>
            <a:off x="380880" y="1752480"/>
            <a:ext cx="1467000" cy="2114640"/>
          </a:xfrm>
          <a:prstGeom prst="rect">
            <a:avLst/>
          </a:prstGeom>
          <a:ln w="0">
            <a:noFill/>
          </a:ln>
        </p:spPr>
      </p:pic>
      <p:pic>
        <p:nvPicPr>
          <p:cNvPr id="198" name="" descr="">
            <a:hlinkClick r:id="rId7"/>
          </p:cNvPr>
          <p:cNvPicPr/>
          <p:nvPr/>
        </p:nvPicPr>
        <p:blipFill>
          <a:blip r:embed="rId8"/>
          <a:stretch/>
        </p:blipFill>
        <p:spPr>
          <a:xfrm>
            <a:off x="228600" y="533520"/>
            <a:ext cx="749160" cy="876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0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09"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0"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1"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12" name="" descr="">
            <a:hlinkClick r:id="rId5"/>
          </p:cNvPr>
          <p:cNvPicPr/>
          <p:nvPr/>
        </p:nvPicPr>
        <p:blipFill>
          <a:blip r:embed="rId6"/>
          <a:stretch/>
        </p:blipFill>
        <p:spPr>
          <a:xfrm>
            <a:off x="304920" y="2133720"/>
            <a:ext cx="1676160" cy="1676160"/>
          </a:xfrm>
          <a:prstGeom prst="rect">
            <a:avLst/>
          </a:prstGeom>
          <a:ln w="0">
            <a:noFill/>
          </a:ln>
        </p:spPr>
      </p:pic>
      <p:sp>
        <p:nvSpPr>
          <p:cNvPr id="213" name=""/>
          <p:cNvSpPr/>
          <p:nvPr/>
        </p:nvSpPr>
        <p:spPr>
          <a:xfrm>
            <a:off x="2438280" y="2133720"/>
            <a:ext cx="563904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 hate you. I cant believe anything you ever say anymore. Why have you done this to me, Romeo? You bug the crap out of me one day telling me how much you love me and want to be with me and the next day you want nothing to do with me? Good! I’m glad you finally grew up and realized that you and I were never going to be together. I just don’t know if I completely understand what’s going on. Just leave me alone I guess. It’s not like we were ever going to be together anyway, but now that you have found “love” you don’t want anything to do with me….</a:t>
            </a:r>
            <a:endParaRPr b="0" lang="en-US" sz="1400" spc="-1" strike="noStrike">
              <a:solidFill>
                <a:srgbClr val="ffffff"/>
              </a:solidFill>
              <a:latin typeface="Arial"/>
            </a:endParaRPr>
          </a:p>
        </p:txBody>
      </p:sp>
      <p:pic>
        <p:nvPicPr>
          <p:cNvPr id="214" name="" descr="">
            <a:hlinkClick r:id="rId7"/>
          </p:cNvPr>
          <p:cNvPicPr/>
          <p:nvPr/>
        </p:nvPicPr>
        <p:blipFill>
          <a:blip r:embed="rId8"/>
          <a:stretch/>
        </p:blipFill>
        <p:spPr>
          <a:xfrm>
            <a:off x="228600" y="533520"/>
            <a:ext cx="749160" cy="876240"/>
          </a:xfrm>
          <a:prstGeom prst="rect">
            <a:avLst/>
          </a:prstGeom>
          <a:ln w="0">
            <a:noFill/>
          </a:ln>
        </p:spPr>
      </p:pic>
      <p:pic>
        <p:nvPicPr>
          <p:cNvPr id="215" name="" descr="">
            <a:hlinkClick r:id="rId9"/>
          </p:cNvPr>
          <p:cNvPicPr/>
          <p:nvPr/>
        </p:nvPicPr>
        <p:blipFill>
          <a:blip r:embed="rId10"/>
          <a:stretch/>
        </p:blipFill>
        <p:spPr>
          <a:xfrm>
            <a:off x="457200" y="4800600"/>
            <a:ext cx="1400040" cy="1638360"/>
          </a:xfrm>
          <a:prstGeom prst="rect">
            <a:avLst/>
          </a:prstGeom>
          <a:ln w="0">
            <a:noFill/>
          </a:ln>
        </p:spPr>
      </p:pic>
      <p:sp>
        <p:nvSpPr>
          <p:cNvPr id="216" name=""/>
          <p:cNvSpPr/>
          <p:nvPr/>
        </p:nvSpPr>
        <p:spPr>
          <a:xfrm>
            <a:off x="2362320" y="4876920"/>
            <a:ext cx="56386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irst off, I hate you too. Stop being such a hater and maybe I wouldn’t fight with you as much as I do, Rosaline. And by the way, I don’t care about you anymore and I do realize we will never be together and that’s all fine because now I understand how much I DON’T WANT TO BE WITH YOU. I’ll leave you alone and I expect the same from you. I don’t love you and I never knew what love was until I met this awesome girl. And guess what; it’s NOT you.</a:t>
            </a:r>
            <a:endParaRPr b="0"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19"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2"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4" name="Rectangle 3">
            <a:hlinkClick r:id="rId2"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3" action="ppaction://hlinksldjump"/>
              </a:rPr>
              <a:t>Wall</a:t>
            </a:r>
            <a:endParaRPr b="0" lang="en-US" sz="1200" spc="-1" strike="noStrike">
              <a:solidFill>
                <a:srgbClr val="ffffff"/>
              </a:solidFill>
              <a:latin typeface="Arial"/>
            </a:endParaRPr>
          </a:p>
        </p:txBody>
      </p:sp>
      <p:sp>
        <p:nvSpPr>
          <p:cNvPr id="22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6"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7"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28"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29"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0" name="TextBox 24"/>
          <p:cNvSpPr/>
          <p:nvPr/>
        </p:nvSpPr>
        <p:spPr>
          <a:xfrm>
            <a:off x="1828800" y="1981080"/>
            <a:ext cx="64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New Girrrr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1" name="Rectangle 20"/>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32" name="Rectangle 21"/>
          <p:cNvSpPr/>
          <p:nvPr/>
        </p:nvSpPr>
        <p:spPr>
          <a:xfrm>
            <a:off x="1602000" y="228384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pic>
        <p:nvPicPr>
          <p:cNvPr id="233" name="" descr="">
            <a:hlinkClick r:id="rId6"/>
          </p:cNvPr>
          <p:cNvPicPr/>
          <p:nvPr/>
        </p:nvPicPr>
        <p:blipFill>
          <a:blip r:embed="rId7"/>
          <a:stretch/>
        </p:blipFill>
        <p:spPr>
          <a:xfrm>
            <a:off x="228600" y="533520"/>
            <a:ext cx="749160" cy="876240"/>
          </a:xfrm>
          <a:prstGeom prst="rect">
            <a:avLst/>
          </a:prstGeom>
          <a:ln w="0">
            <a:noFill/>
          </a:ln>
        </p:spPr>
      </p:pic>
      <p:sp>
        <p:nvSpPr>
          <p:cNvPr id="234" name=""/>
          <p:cNvSpPr/>
          <p:nvPr/>
        </p:nvSpPr>
        <p:spPr>
          <a:xfrm>
            <a:off x="1676520" y="2743200"/>
            <a:ext cx="66294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You finally found a new girl? Wow, I’m surprised you could finally get a girl who doesn’t completely ignore everything you do to show how much you “care”. Haha. But no what’s little missy’s name can I ask? And how did you two meet? I’m just happy if she actually shows you affection. I know you’re going to need a chick for when we hang out. I cant help that all the girls like me. Jk. But, really, you need a girl for when we hang out too. </a:t>
            </a:r>
            <a:endParaRPr b="0" lang="en-US" sz="1400" spc="-1" strike="noStrike">
              <a:solidFill>
                <a:srgbClr val="ffffff"/>
              </a:solidFill>
              <a:latin typeface="Arial"/>
            </a:endParaRPr>
          </a:p>
        </p:txBody>
      </p:sp>
      <p:pic>
        <p:nvPicPr>
          <p:cNvPr id="235" name="" descr=""/>
          <p:cNvPicPr/>
          <p:nvPr/>
        </p:nvPicPr>
        <p:blipFill>
          <a:blip r:embed="rId8"/>
          <a:stretch/>
        </p:blipFill>
        <p:spPr>
          <a:xfrm>
            <a:off x="304920" y="1905120"/>
            <a:ext cx="1323720" cy="2000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53</cp:lastModifiedBy>
  <dcterms:modified xsi:type="dcterms:W3CDTF">2010-05-19T16:23:35Z</dcterms:modified>
  <cp:revision>84</cp:revision>
  <dc:subject/>
  <dc:title>Profile</dc:title>
</cp:coreProperties>
</file>